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750-4458-4FC9-96FA-7097115D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AC4-B6F7-4A46-B72D-5B517F97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E05-7A3E-40DD-82DD-70520A9C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3DD-44FD-4BAF-A1B9-86093B08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1B7-F57D-4C53-BC2F-0782AD01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0FA-D886-43F1-828C-D6916D46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A37-D258-4A65-89F1-B74A28D8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799-376D-463D-98EE-D56B4B8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BD5-8EF7-4CCF-8625-4F78779B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E5B-4C38-4C38-B3B6-338ED3F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C81-A1FF-4928-8715-5ACC1A5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DBA-C4D2-4021-8AD9-B31AF0D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410-7225-4A4C-8773-6B1741DB6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nate.gov/" TargetMode="External"/><Relationship Id="rId2" Type="http://schemas.openxmlformats.org/officeDocument/2006/relationships/hyperlink" Target="http://gov.state.ak.us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gore.com/" TargetMode="External"/><Relationship Id="rId2" Type="http://schemas.openxmlformats.org/officeDocument/2006/relationships/hyperlink" Target="http://www.senate.gov/" TargetMode="External"/><Relationship Id="rId3" Type="http://schemas.openxmlformats.org/officeDocument/2006/relationships/hyperlink" Target="http://www.algore.com/" TargetMode="External"/><Relationship Id="rId4" Type="http://schemas.openxmlformats.org/officeDocument/2006/relationships/hyperlink" Target="http://biden.senate.gov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johnmccain.com/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3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ohn McCai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228600" y="327672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Barack Obama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240" y="2590560"/>
            <a:ext cx="3886200" cy="16002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just anyone can be Presid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ve to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 in the ______ _____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least 35 years o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ly be President for _____ yea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at's two four-year terms.) Franklin Delano _________ was the only person to be President for more than two terms. He was elected four tim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esident can be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 or a wom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 ____ or any 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19280" y="3962520"/>
          <a:ext cx="5238720" cy="17366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McCai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 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senate.g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 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h Pali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 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gov.state.ak.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8" name="Picture 5" descr="http://www.pocanticohills.org/election/John_McCain.jpg"/>
          <p:cNvPicPr/>
          <p:nvPr/>
        </p:nvPicPr>
        <p:blipFill>
          <a:blip r:embed="rId3"/>
          <a:stretch/>
        </p:blipFill>
        <p:spPr>
          <a:xfrm>
            <a:off x="1981080" y="1676520"/>
            <a:ext cx="1905120" cy="24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ww.pocanticohills.org/election/Palin.jpg"/>
          <p:cNvPicPr/>
          <p:nvPr/>
        </p:nvPicPr>
        <p:blipFill>
          <a:blip r:embed="rId4"/>
          <a:stretch/>
        </p:blipFill>
        <p:spPr>
          <a:xfrm>
            <a:off x="4648320" y="1628640"/>
            <a:ext cx="1923840" cy="2409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_ Party Presidential and Vice Presidential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 Party Presidential and Vice Presidential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52640" y="3825720"/>
          <a:ext cx="5238720" cy="17370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ack Obam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 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_x000b_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www.senate.g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 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e Bide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 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_x000b_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http://biden.senate.g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1" descr="http://www.pocanticohills.org/election/ObamaBarack.jpg"/>
          <p:cNvPicPr/>
          <p:nvPr/>
        </p:nvPicPr>
        <p:blipFill>
          <a:blip r:embed="rId5"/>
          <a:stretch/>
        </p:blipFill>
        <p:spPr>
          <a:xfrm>
            <a:off x="2409840" y="1704960"/>
            <a:ext cx="1781280" cy="24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pocanticohills.org/election/biden.jpg"/>
          <p:cNvPicPr/>
          <p:nvPr/>
        </p:nvPicPr>
        <p:blipFill>
          <a:blip r:embed="rId6"/>
          <a:stretch/>
        </p:blipFill>
        <p:spPr>
          <a:xfrm>
            <a:off x="4981680" y="1628640"/>
            <a:ext cx="1724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438120"/>
            <a:ext cx="2971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hn McCain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johnmccain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880"/>
            <a:ext cx="518796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August 29, 1936 in __________ Canal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ed the United States ________ Acad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d captive as a P.O.W. in 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______ he became the Navy’s liaison to th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House of ______________ in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the U.S. _________ in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ried with _______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ttp://www.webinfrance.com/wp-content/uploads/2008/03/john-mccain.jpg"/>
          <p:cNvPicPr/>
          <p:nvPr/>
        </p:nvPicPr>
        <p:blipFill>
          <a:blip r:embed="rId1"/>
          <a:stretch/>
        </p:blipFill>
        <p:spPr>
          <a:xfrm>
            <a:off x="266760" y="173340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John McCain"/>
          <p:cNvPicPr/>
          <p:nvPr/>
        </p:nvPicPr>
        <p:blipFill>
          <a:blip r:embed="rId1"/>
          <a:stretch/>
        </p:blipFill>
        <p:spPr>
          <a:xfrm>
            <a:off x="304920" y="1143000"/>
            <a:ext cx="3979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ohn McCain"/>
          <p:cNvPicPr/>
          <p:nvPr/>
        </p:nvPicPr>
        <p:blipFill>
          <a:blip r:embed="rId2"/>
          <a:stretch/>
        </p:blipFill>
        <p:spPr>
          <a:xfrm>
            <a:off x="304920" y="3733920"/>
            <a:ext cx="39798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ohn McCain"/>
          <p:cNvPicPr/>
          <p:nvPr/>
        </p:nvPicPr>
        <p:blipFill>
          <a:blip r:embed="rId3"/>
          <a:stretch/>
        </p:blipFill>
        <p:spPr>
          <a:xfrm>
            <a:off x="4724280" y="1066680"/>
            <a:ext cx="4064040" cy="5105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600200" y="6248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hnmcca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John McCain 20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85680"/>
            <a:ext cx="7572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840" y="4381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rack Obama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barackobama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81280" y="304920"/>
            <a:ext cx="51120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August 4, 1961 in ___________,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ed _________ University and _________ Law Scho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the __________ State Senate in 19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ed the keynote address at the 2004 ____________ National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election to the U.S. _____ in 2004 with a landslide ___% of the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ried with ____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http://www.depauw.edu/photos/PhotoDB_Repository/2007/8/Barack%20Obama%20Capitol.jpg"/>
          <p:cNvPicPr/>
          <p:nvPr/>
        </p:nvPicPr>
        <p:blipFill>
          <a:blip r:embed="rId1"/>
          <a:stretch/>
        </p:blipFill>
        <p:spPr>
          <a:xfrm>
            <a:off x="152280" y="160020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Young Obama"/>
          <p:cNvPicPr/>
          <p:nvPr/>
        </p:nvPicPr>
        <p:blipFill>
          <a:blip r:embed="rId1"/>
          <a:stretch/>
        </p:blipFill>
        <p:spPr>
          <a:xfrm>
            <a:off x="228600" y="76320"/>
            <a:ext cx="393372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missionenvironment.com/blog/wp-content/uploads/2008/02/barack-obama1.jpg"/>
          <p:cNvPicPr/>
          <p:nvPr/>
        </p:nvPicPr>
        <p:blipFill>
          <a:blip r:embed="rId2"/>
          <a:stretch/>
        </p:blipFill>
        <p:spPr>
          <a:xfrm>
            <a:off x="5276880" y="76320"/>
            <a:ext cx="3333600" cy="31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chicagotribune.com/media/photo/2008-06/39590587.jpg"/>
          <p:cNvPicPr/>
          <p:nvPr/>
        </p:nvPicPr>
        <p:blipFill>
          <a:blip r:embed="rId3"/>
          <a:stretch/>
        </p:blipFill>
        <p:spPr>
          <a:xfrm>
            <a:off x="4114800" y="3429000"/>
            <a:ext cx="4762440" cy="306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http://i.realone.com/assets/rn/img/3/3/5/4/19064533-19064535-large.jpg"/>
          <p:cNvPicPr/>
          <p:nvPr/>
        </p:nvPicPr>
        <p:blipFill>
          <a:blip r:embed="rId4"/>
          <a:stretch/>
        </p:blipFill>
        <p:spPr>
          <a:xfrm>
            <a:off x="385920" y="3200400"/>
            <a:ext cx="311940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4"/>
          <p:cNvSpPr/>
          <p:nvPr/>
        </p:nvSpPr>
        <p:spPr>
          <a:xfrm>
            <a:off x="380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arackoba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9-30T20:15:00Z</dcterms:modified>
  <cp:revision>35</cp:revision>
  <dc:subject/>
  <dc:title>Famous People Friday</dc:title>
</cp:coreProperties>
</file>